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3E0-1C98-4262-9FFE-72A70B3A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6FB-AEBE-4752-AE1E-D74CC933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2D852-3E63-4F4B-81F5-744FBF0D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739B5-78F2-4F41-9D43-046CF064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3600-238C-4BD6-BE89-0DD4987F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E3AB7-FF7C-48E2-AE20-CDD06195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384AE-D2A5-4FE6-9922-2ECEE29F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6225C-3BB0-43F1-8063-AA1A461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49CAA-01C2-4E58-91BA-EFE057F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B5DF8-9B1A-4A3D-AB42-7C5834DF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8933-7677-4E6E-ABBD-0070A9E4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224B4-8C3B-4067-AD2D-8BB3330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15E-97CF-4D6D-AED5-92C81482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C9428-75F7-48DD-8540-25E76D1A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33E59-B70F-48B1-B167-C2177AC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50CC0-854A-40BA-9319-98F2218D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B99F-006A-4305-BD00-6BA85F7F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5F28A-B2D9-48D7-8C3B-22A1D9D6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B7C9D-7102-4F29-8AB4-1CF45582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7EC87-50AC-49F0-AADE-54186180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9B2CA-F991-45E9-899F-ECA0B2AA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FC640-B045-4ABA-91DB-E5AE2DB0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9C739-3F25-45FF-8A9D-95CD824F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480-4EEA-40C1-88AA-145162EE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686B4-302D-43BC-8816-8AB01025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F3FFE-0C5E-4CD8-9BE1-614AA395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8D46F-8A6D-497D-AD77-FE01D134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C2F39-FD89-4D43-B563-4D927E6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19491-5316-46FC-A7B5-6CA05E65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94ED2-4796-4080-AF5A-A1A08E5A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D4144-0715-4118-9F93-8781D3B1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B5997-66C6-434B-BDA1-78BC95A6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7AD87-0B0C-4118-9648-96CAFD4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F7B2A-1C28-4667-BB40-C2F62F00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B395A-27B6-4DC6-932B-4D4B66D8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A39E2-36A1-4D8A-BC51-361B8A20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F9A37-B9FC-4BB2-86D3-2C0FFF7C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22B4D-5437-490B-A508-645F0E5A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5AFF8-A586-438A-AC05-951EEAE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95A4E-5F92-4DAF-84F2-6F383913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7EFF9-1AF7-4480-88B3-3D85312D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C492B-33A5-4F04-B2A5-FDD198B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DB94A-8C09-499F-B571-968B7DFB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84090-B110-4A60-AF1B-09BD6FE2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146FB-2832-44C6-9746-E6E08E8A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99EEF-3A1C-45C1-945E-DAB9F71A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6E783-887E-4B9D-82F5-F591EBD5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ACCC8-AA41-4810-B508-0EBA9283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0103D-1A5A-4FC1-895E-A694655E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B7FD2-2642-4E33-968C-B070080A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1E85D-D482-42DA-A695-6B60DE43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E52E3-AFAB-4EA2-84AC-044B10B5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65A9C-36C5-44CC-84D6-8071898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1AE32-39BE-4C08-8E75-9294B3FB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09571-6FF1-43DC-94D9-BEE97CDD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1D98D-A09F-403D-B5C6-A15D751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F859F-6F07-4542-B767-3C859419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53059-919A-4FB9-B1FF-2C9236DF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FA088-93E2-4665-9AE5-CC121EED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EB526-071A-4F3B-9BD3-9E1BE1EA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D286E-D978-44C8-B164-D1410515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D380E-CC07-44E6-B124-E33C078B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05D81-7152-46A6-B4B3-0DF01F6D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0119C-FECC-4FD6-ACE2-C044E92F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C5A50-2D2A-4932-B59D-0B13FCCB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98261-A855-40BE-A648-B5FB7F5B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F1359-584A-4AF9-B7BB-6ECCB6CE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5A389-3B72-4CF9-9503-59D6F40F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2DF13-35AF-4C12-B832-7AD45EE2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F7149-66AC-4389-883A-71BBF28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4B36B-CCDB-491B-A5A4-263B26A1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99DCF-868E-4BF3-8FB8-AC4A0A73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2E6D0-A332-4FBD-AA0C-4BF19D89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4F379-458A-4AC8-BD8D-2D418661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29F20-3783-416E-87C4-B7C96975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DDB88-86C5-45F0-B446-AA8506C8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7661B-7130-4C65-9974-5AE64988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9FA2D-04CC-46CA-A7A6-4B4C0B0C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AB7B0-AE0C-49C5-97E0-D4D5BEE3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A0DE9-0053-4752-898B-0F947FA9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93BAE-F514-45F7-9773-83D1184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71371-C33D-4748-94E9-33FA1BF8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9E89A-501B-4AC1-B0DA-7F0C6737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C1BBF-806A-4220-8B61-C69FF2C5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BFD73-1196-4B61-9D7E-ADDC5502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12D21-A4E1-499E-823A-3C4BF03C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2A303-2D57-4CD8-8417-021A47F8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FAEE8-2227-4ECC-B34E-E66E4DD0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6081E-E295-4511-A34C-76712A7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7E5D2-2BD4-4DBA-BF6E-671B8352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861E9-5F49-411C-B4A2-F139508E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2D87F-DB84-4813-A6EF-944E3E36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7A13F-E293-4628-BDCE-4FDB2DC4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2FA13-49F5-4B41-BEB7-40DF49AD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C30F1-B965-4C7F-BC26-6135C71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A45B4-AC20-4EF4-BB5E-E13E1E80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9BE9D-909B-45FD-B5A9-6BBF3AB3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6C00AE-701E-4E39-B155-26106689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2B434-9C46-4BDF-81F8-F3E3A754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CC1C7-1408-463B-B3E7-BEE07ABE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6DB9E-9061-424D-99C9-E8582919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58FCF-1F7D-4153-8CCD-01058E62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6507E-2E0B-489F-BF37-274740C4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45F42-46FC-4E10-B4F7-E403992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518-093B-4AC4-B75F-5CE40FED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09FD3-B9BF-4256-B48A-F39EDBA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139B7-DC5D-45C1-8663-F468580B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119E5-DB8F-490A-A0F4-CD6870D2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859A8-B7F4-46BA-8E16-1A9B976A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A2A43-E385-4C60-8A79-ED75744C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A0BF9-6EC0-407C-B81E-9823E261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1F6C7-3F3D-4220-8632-D8B1B8D5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D9D19-61BD-4793-871C-0768D8AE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634D5-1EE6-4302-99B7-B221FD4C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0BF91-9FBE-41E6-B7DF-00EEF28B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FAAA3-8B9B-44E6-851D-6E0DE552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C7A8B-B5A6-4EEC-A032-5888416F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68386-742C-4AAF-973C-25D912A2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8671C-53C8-4748-BE57-27C094BC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8D8D4-55DF-4035-AAD3-B5509093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5A250-1BE2-48CD-92CD-CBF44C0C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A5259-C3AE-4B48-BDCC-E78113D3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55C09-1028-4370-8354-FFBB0725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CE211-E1FC-4AC8-8AE0-92689AD7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54F26-2561-459A-A2D3-C6259A46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6FD17-16BB-4A1D-96AF-61AC45B5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090CE-215F-4D65-8708-1CA7C4EF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22623-06EE-4353-A8EB-5BC7C983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173EAD-B07C-4E99-A8EA-CD8A961C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1D32F-957F-4FC6-B021-4D276159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DC1CE-0FDF-440C-9D85-8C00555B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371E2-5464-44B1-B277-45FD0CD7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AA121-23B2-425F-8F2D-CFA2F91F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D5235-7000-48D4-9559-52FB8B2C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22036-74DC-4F10-A298-03905607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4E15F-F36B-48C2-9D2D-2B352F78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0A1F8-6D5E-45EA-A1AE-29C484B7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A8DCD-F663-49FC-9D19-CC49988F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30AF6-F802-4910-A21E-2E42BDFE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AABD5-2890-4DCB-BAA2-45BF7500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4B080-AAEF-403C-99D9-CCC896E1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0FB8D-59C4-479D-9086-5DE4A21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11D8D-BBC4-4901-B905-4FD8257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711B2-0770-4E4B-80F8-A0C4ECC4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D27CE9-7FB1-4855-AF28-A11A7C10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FA5F7-F49E-4969-AC58-F9F65D6B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F0F9D-1612-4DE9-951C-C02A380C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E1D5A-D68D-46EB-B804-964F9B78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16906-7463-4497-8C5A-2928E85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CAF82-EA9B-4D97-92C9-2214709D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15190-CB9B-4FAB-B3AE-84BFF6AA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ADF78-26DE-488E-80B3-35F9C544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6F81C4-D44A-4F7B-9E81-B6B201E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65B09E-A43E-4BE4-BAF3-6471D83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3B294-ED25-4B6F-AE93-1E0BAFC9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3D0F3-6A13-4665-AA78-20EF5771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6FF26-640D-447F-B54B-90E28329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683F2-9A92-43F6-BF88-EBB60D55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E7D2F-DDE7-4DDA-A613-A53928E2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F0B31-3B8B-4613-AC4A-A8B5D04C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B1AA79-BBF0-4F38-8FB8-A21C457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3C012B-8DF6-4FF7-9F6E-3958E222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A69D41-5E26-4983-B59C-C321E350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814BE-F1AC-4EEB-8881-08D8C305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2E3FE-C6EA-4E22-B3C6-35052B73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3835F-A5C6-4CD4-992D-EFDE007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2D9016-A2DC-4C6A-9889-1F8F45F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5E5FE-4D3D-428D-B6CF-6B5965B8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A6C63D-8084-4F6B-A107-921C6EB5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FE3A08-AC30-4B3C-BE07-A131D283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8A0C9E-A8D1-47CA-A46F-40B0DE5C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B3B6A5-6BFE-4D15-A5DF-A399A5BE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913F4-6673-4DF9-B5F1-99FFD0E3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D66E5-2E33-414E-BAE9-1A0E55D2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77E6EE-034B-4350-89FA-461B3D7F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E6887A-FEF7-4A6B-8F16-796FE939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37F67D-81A5-4956-8CAD-E3A607A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EDF861-1B61-47BF-865B-2F802F00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0DC4D-784E-4BDE-BE4F-BC6E779A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C4FE0-9673-42E6-BD3B-974D1B44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15B8F-0B98-4063-92DF-A4F69890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B2DCEA-B478-45B7-92EB-90ECDBC5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843E95-7D0E-412F-B9E6-B9066135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5C782-7882-4864-80D9-921FD948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6040A4-550D-49D4-BF8A-D3229134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739AC-AC0F-47CB-8507-E03C5307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E22D08-8E25-4013-B559-D57DFB7F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EA2395-3373-4CB9-A688-48184E6A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997AA3-7BF9-4FD7-B446-DB6BDD3E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595069-A182-4B17-890D-5A73A8C6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79E8D1-D7BC-4128-9458-37CB04E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BDBF26-C058-4B98-A1F8-D00D8ABC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FC39B2-EBAC-434C-AF80-15256F82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4AB052-2624-4E69-A64A-7F045080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BD85F4-1383-47A8-A405-96539AAB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E907CE-3F41-4B9F-B8F2-A781B3D1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7E75A3-B1CD-483B-AF7B-2D103742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8468DC-86A9-4DDF-A0E4-B132A74A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71B486-83C0-4229-A244-478AD0FD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0B9BE6-C170-4B79-B1D1-CF738C90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5D7500-DB6C-4D39-B614-5290D8FE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5AA0B4-A717-445D-AD76-3E2B073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6BD269-7DD2-4B2A-9D0D-7E1B6193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126C47-B995-4FA3-9A40-8987920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ECD938-160B-451F-814D-01C344D0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887-AEDC-4FFA-927D-A1E2C9F9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F54F0-5865-4B6E-9186-D61BC65B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F64312-6EA3-4194-8E81-F1622EE5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37B041-5AD7-4AA4-BA75-D7CDCD40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41D102-A43D-4EFD-8E15-FB152CD4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56732E-8410-4569-A51E-7988ED4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AFC737-A208-4184-AD3D-CD39BBD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B230F9-A1F9-4156-A62E-5CE490BD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AAF929-8882-4E66-9545-4789FAAD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C2677A-4A97-45D7-917E-6A45A742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71EDDE-97D1-4006-BC7B-7AE3B3EE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FD38CC-0660-4C1F-B9DB-F2C6148D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8FA873-397D-4AB4-8B44-FEDE52CD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BC687E-534A-4283-82A7-6ADEF3C3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E1F6F5-C8B6-409F-8B0B-BEE1602E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3B7E26-898E-484D-8D21-03042D2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35DC64-74A8-4C92-9197-6F572396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8A45C4-06B1-4200-92ED-04501381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A3AD91-0DE5-4D8B-AFDE-88788B22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EEDB2C-5A56-4DB5-B58A-AF94B319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3A7203-6BDE-44E1-B936-6AA97399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EAE520-DB31-492C-8B11-AD49AA4D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42AA4F-CF0E-48BB-80D9-4A193168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F987DD-1AF7-4635-8B09-4CE00E17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781ADB-AB01-4360-A643-BF4127E2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68F422-DB43-4E65-BAC3-90E763F1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C5B79B-FE3C-4210-A8C4-C582E3C2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CB52D7-B4B6-4FE9-B9CB-BE16B6B5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C97DB2-EAD5-4D51-97D1-FD7D0657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9D4CDE-C598-40FD-857A-CC01E50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DEE666-9201-4272-B0C3-23D43C72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933001-AB55-462A-BE39-7EC885FC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9F2B50-484B-4AB5-AEF9-BC00AF0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41A278-ACD9-41CF-926B-E3FE7D7E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F07230-9A20-421C-BFE1-0492F404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9F8438-9736-4658-BF23-E0CABB01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D9512C-BC10-4F8E-BF83-BD9FA713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41EADF-7520-4A98-B30B-96AB46EE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FE53E5-1F23-42E4-9019-B11E38D1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18235F-0A95-4E10-B19F-06EF738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7C07B4-901F-4B62-867E-EC22E6F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2DC2B8-80BA-4107-AB2F-38CE828E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0ECC47-6F23-4682-8ACD-59816A94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2AA829-3616-4CA3-BFD0-5ABC0DB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74EDAA-AB75-473D-9ABF-9D553DD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6236BC-FC5D-4951-97C6-6719C301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C6E720-C074-4682-A133-824675F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1CC430-CAC0-4D94-A9D7-BD3B2328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4B46E5-B6AE-4C17-BEBE-61B34817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0B3CF5-6516-43C3-BEFF-72953F06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CFB003-CBC8-4A98-A1CB-CEF212D1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680E6F-1F31-480A-BD2C-9726BE3B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BED59F-53CB-4990-AF0A-EBA67898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D3BBE3-75FC-4791-9266-81CBAF93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04F070-4D5A-4745-845C-0C1622E7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FAD6D6-8BD4-48CF-A8E8-BA191F23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26EEBE-FC66-48A0-9845-3A39C5CA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255E1F-C34A-40A1-8F12-A73F7A99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66D94D-E550-4BE9-B857-89326D7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FAE34E-5FB4-494E-B306-1CA33335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FB2ED2-CAA0-4509-82E0-319E3ACC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2D1D72-6879-4E83-97C7-F300CC47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4E52C8-B572-4747-9BEF-8830C7E5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1FB00D-47F1-4BAC-80F7-E0DC5514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0CAF32-724D-4470-9991-6190C5CA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9DDA63-AAAB-49F4-8AC0-8109A14F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379D19-A5FA-4372-9300-9015A018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65F75D-C041-4AE9-8929-0BA7717D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92F165-65FE-4932-AE63-831065A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B8E066-4DC3-41A3-9765-14FE868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C52F5B-40C9-4BE3-8503-E492900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F70B-3499-45BD-962D-4F2786C0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3F78FA-F2C8-4D20-8E11-81FC075A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637084-34FC-43D1-A94F-BD04A710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CA2B51-30EA-4BFC-9991-DD51E7B5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457B-7F9C-4AD1-A4E5-9A4F7ACB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E0C9-B099-4DC6-AE2F-2484DB55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951-8732-4FDB-A2E0-39D559C3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FE5B-88A8-44D1-9C37-093E96B7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CAE9-82A4-49CA-94C8-8A03B429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90CC-03C4-4900-8A27-1DEA31C2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AD71-AAA7-48BC-A4FD-C44E8D6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2F4-AEF7-4EF7-B698-B960C0C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A85A-46A7-490D-907C-558DAD4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E1B8-E079-4EBB-8A44-09EF9C6A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FE0F-2D02-4C40-8DAE-CBAB764F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C3D9-F2C6-4298-B785-A6F443FF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5D99-EE62-4D99-8872-77A7D77F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885-F390-41AE-85FC-A41E38E5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360F-49E5-4F3B-94BD-3F60EFA2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1A13-95D6-489D-8735-F82A6896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D23F-8720-4855-B289-12541573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8ED5-3FB6-42CB-888C-8A3AF25C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7A6C-9893-4930-A920-D33B5A0F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3CAD-19E9-4BA3-8843-DFB88364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D113-18E4-463D-ADC3-FDC983FA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A108-73C5-4311-B391-3FABBD28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569C-A73E-423E-8BE2-29FC133C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E914-5676-42CB-AB42-578EBD13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8B1-7055-4C08-BDE9-2D37EB69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EF31-F02E-4E25-9C48-FB22B3F1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3B4E-97BE-424F-932E-DE087446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2357-F646-4E8B-B130-FC626DB4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ACB8-634E-40DA-ADF8-DAAB73C4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8572D-8D93-457B-BB28-54011858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21F0-47E1-41E6-B630-0AA76F3D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2E1F-3F6B-4D5F-A3EC-20F6BC3A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6065F-640F-4FDC-B421-B12ABC1A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D753-F03A-4601-88DA-DD44C245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F5A7-74E5-4F01-B50A-6A72F9D2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D75-C6FF-453F-8705-A0E3E1F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9569-E0F4-4638-A240-A0B2FAA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EACF-1570-4C5A-AE53-EBDFFD11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40DA3-FE4B-4FA8-B70D-5438DF09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C78B-8174-40F7-9AB8-48ED3F80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4EF5-7D51-419C-BEE1-A1406548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5B131-DCDD-4693-A0D7-551E86B5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D6FE7-689C-447E-B9C1-7A564212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FD630-96BB-442C-834A-4182015E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394C-6721-478E-B4ED-8C395561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45A20-6454-4DBE-8EAB-2BBC3EBC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BE1-6991-47FA-9CAA-37A51FA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3E17-D306-4D3A-A45A-6D384E18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E1314-0A91-40E8-8D23-E8BED8E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8BD2F-B1F6-46D4-96FE-E660F283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DD50-63BF-4DD9-81EE-3295912B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1EE5-BD27-4B9E-90AE-95981FFC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76CB4-E788-446F-8423-4BCB378A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B36D8-8576-4817-B109-A816E5AD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CBBE-9CF3-4C16-955E-2666ABEE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32236-75C9-4686-AB54-44B78205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1D693-4097-4C76-94AD-3069E052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E3E-0E0C-4AE7-8FD3-E9EC6AE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F9C2C-051A-4001-B56E-763D51BE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8015C-5C7F-46A4-9658-1CF0843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DB451-3D06-4914-83CE-BC31AB66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10593-6A4B-46D1-991C-EFF4B7C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54D04-F31F-4116-AF55-4B3E885B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B38E8-E591-4808-8B4C-02A8160C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D17B-CB5B-400B-B135-71F3D0C4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6D75-3078-4019-8747-DD2B4203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AA30F-A835-4A84-9219-03E4774B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F21C2-A05D-4021-9283-D624B0DE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83D-B221-4CB9-B33B-C80E124AD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9E1D-B5BC-4D21-BFDE-28A5F00DC715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630D-C525-460A-A857-53AE7575E71E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6738-ACE3-4EBB-A5ED-EB287CE2964C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2EBD-A89C-4B4D-B0DC-1F1932547E0B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3EAC-9CA4-40E2-8E9E-DAA3C0188867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BA4B-08AF-44E6-A903-AE726D5C68CA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1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1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DECE-578A-4937-947C-2B3050BAD85D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BA8C-B444-4D2A-8453-ECDEC5B63AD2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81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1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1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1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1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1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1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1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2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2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2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2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3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3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3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3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4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4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4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3CA-808F-443D-92B9-1E0CC708FD56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88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8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8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8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8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8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8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9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9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9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9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0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0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0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1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1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1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1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BF73-5556-4EEF-9DF0-40D2F792DF61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95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5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5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5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5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6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6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7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7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8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8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8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8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8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985" name="PlaceHolder 1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8702-44EC-4E3B-9D86-34D8B9476D34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0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B340-082F-4170-BD06-7BA67A3EA865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09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9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9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9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0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0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0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1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1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2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2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5E32-08DB-4698-A06B-683CE4FE2187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16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6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6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7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7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7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7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8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8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8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8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9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9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A173-2FD4-4779-B885-F487EC48EBF5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23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3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4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4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4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4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5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5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5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5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6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6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3DEA-72F5-4BC8-845C-6DE9B2630AFC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30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1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1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1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1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1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2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2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2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2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3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3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340" name="PlaceHolder 1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2507-EA4F-45A4-81D4-324D722B5CA0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38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8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8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8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8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9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9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9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9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0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0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0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1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411" name="PlaceHolder 1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FF74-01C8-4163-BEC6-1D6CF72E1D03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45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5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5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5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6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6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6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6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7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7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7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7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8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8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482" name="PlaceHolder 1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83EE-42E3-42B1-9169-0CC71C7DF561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52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2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2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2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2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2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2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2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3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3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3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3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4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54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4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4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5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5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5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553" name="PlaceHolder 1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8504-D9F9-4C73-8CF7-E19ACDAB7664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59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9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9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9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9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9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9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0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60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0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60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1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61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1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62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2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2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2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624" name="PlaceHolder 1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4C7D-6EC0-4B5B-BDB5-21AEB8EC02A0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66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66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6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6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66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6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7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67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7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67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8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68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9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69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9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9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9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01CF-31E2-40DD-A5C5-EC612F62CE8A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73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73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3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3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73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4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74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4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74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5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75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6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6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76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6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6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6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766" name="PlaceHolder 1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85B-307D-4510-B847-3C0991F01D98}" type="slidenum"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6155-CEB7-4918-B9BA-7988A978614E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9377-694D-40B7-9039-4D26A322CEBA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4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4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3559-6FB9-4974-8A74-9CFCE98F112D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55E3-54E1-4945-A8B9-2E09DD4FD32B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FE81-B9DB-486A-B028-3C93AB721AD1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8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7218-D338-4750-A7C9-C2CA605564F4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Bradley Hand ITC"/>
              </a:rPr>
              <a:t>Transcendentalism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6" name="Picture 4" descr="Walden1"/>
          <p:cNvPicPr/>
          <p:nvPr/>
        </p:nvPicPr>
        <p:blipFill>
          <a:blip r:embed="rId1"/>
          <a:stretch/>
        </p:blipFill>
        <p:spPr>
          <a:xfrm>
            <a:off x="380880" y="1447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5"/>
          <p:cNvSpPr/>
          <p:nvPr/>
        </p:nvSpPr>
        <p:spPr>
          <a:xfrm>
            <a:off x="0" y="617220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http://www.huffenglish.com/powerpoints/transcendentalism.ppt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808" name="Picture 7" descr="http://www.pomperaug.com/research/forest.jpg"/>
          <p:cNvPicPr/>
          <p:nvPr/>
        </p:nvPicPr>
        <p:blipFill>
          <a:blip r:embed="rId2"/>
          <a:stretch/>
        </p:blipFill>
        <p:spPr>
          <a:xfrm>
            <a:off x="5486400" y="28195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Ralph Waldo Emers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5" name="Picture 6" descr="emerson"/>
          <p:cNvPicPr/>
          <p:nvPr/>
        </p:nvPicPr>
        <p:blipFill>
          <a:blip r:embed="rId1"/>
          <a:stretch/>
        </p:blipFill>
        <p:spPr>
          <a:xfrm>
            <a:off x="914400" y="1371600"/>
            <a:ext cx="3328920" cy="479412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3-188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arian min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 and essay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ed the Transcendental Cl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r lectu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ned from Harvard for 40 years following his Divinity School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r of abolitio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7" name="Picture 10" descr="j0298897"/>
          <p:cNvPicPr/>
          <p:nvPr/>
        </p:nvPicPr>
        <p:blipFill>
          <a:blip r:embed="rId2"/>
          <a:stretch/>
        </p:blipFill>
        <p:spPr>
          <a:xfrm>
            <a:off x="7620120" y="6059520"/>
            <a:ext cx="9144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Henry David Thorea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9" name="Picture 6" descr="thoreau2"/>
          <p:cNvPicPr/>
          <p:nvPr/>
        </p:nvPicPr>
        <p:blipFill>
          <a:blip r:embed="rId1"/>
          <a:stretch/>
        </p:blipFill>
        <p:spPr>
          <a:xfrm>
            <a:off x="819000" y="1523880"/>
            <a:ext cx="3400560" cy="4191120"/>
          </a:xfrm>
          <a:prstGeom prst="rect">
            <a:avLst/>
          </a:prstGeom>
          <a:ln w="0">
            <a:noFill/>
          </a:ln>
        </p:spPr>
      </p:pic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17-18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teacher, essayist, po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famous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ld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vil Disobe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uenced environmental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r of abolitio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1" name="Picture 10" descr="j0298897"/>
          <p:cNvPicPr/>
          <p:nvPr/>
        </p:nvPicPr>
        <p:blipFill>
          <a:blip r:embed="rId2"/>
          <a:stretch/>
        </p:blipFill>
        <p:spPr>
          <a:xfrm>
            <a:off x="7620120" y="5791320"/>
            <a:ext cx="9144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Amos Bronson Alcot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99-18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 and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er of Temple School and Fruit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art, music, P.E., nature study, and field trips; banished corporal punis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her of novelist Louisa May Alc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4" name="Picture 6" descr="alcott"/>
          <p:cNvPicPr/>
          <p:nvPr/>
        </p:nvPicPr>
        <p:blipFill>
          <a:blip r:embed="rId1"/>
          <a:stretch/>
        </p:blipFill>
        <p:spPr>
          <a:xfrm>
            <a:off x="4754520" y="1600200"/>
            <a:ext cx="2703600" cy="373392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13" descr="j0298897"/>
          <p:cNvPicPr/>
          <p:nvPr/>
        </p:nvPicPr>
        <p:blipFill>
          <a:blip r:embed="rId2"/>
          <a:stretch/>
        </p:blipFill>
        <p:spPr>
          <a:xfrm>
            <a:off x="7620120" y="5791320"/>
            <a:ext cx="990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Margaret Full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10-1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ist, critic, women’s rights activ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ditor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transcendental jou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female journalist to work on a major newspaper—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New York Trib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ught at Alcott’s Templ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8" name="Picture 6" descr="fuller"/>
          <p:cNvPicPr/>
          <p:nvPr/>
        </p:nvPicPr>
        <p:blipFill>
          <a:blip r:embed="rId1"/>
          <a:stretch/>
        </p:blipFill>
        <p:spPr>
          <a:xfrm>
            <a:off x="4876920" y="1600200"/>
            <a:ext cx="3044880" cy="4343400"/>
          </a:xfrm>
          <a:prstGeom prst="rect">
            <a:avLst/>
          </a:prstGeom>
          <a:ln w="0">
            <a:noFill/>
          </a:ln>
        </p:spPr>
      </p:pic>
      <p:pic>
        <p:nvPicPr>
          <p:cNvPr id="1849" name="Picture 7" descr="j0298897"/>
          <p:cNvPicPr/>
          <p:nvPr/>
        </p:nvPicPr>
        <p:blipFill>
          <a:blip r:embed="rId2"/>
          <a:stretch/>
        </p:blipFill>
        <p:spPr>
          <a:xfrm>
            <a:off x="7924680" y="5969160"/>
            <a:ext cx="1017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Ellery Chann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18-19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et and especially close friend of Thor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ed the first biography of Thoreau in 1873—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oreau, The Poet-Natur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2" name="Picture 9" descr="channing"/>
          <p:cNvPicPr/>
          <p:nvPr/>
        </p:nvPicPr>
        <p:blipFill>
          <a:blip r:embed="rId1"/>
          <a:stretch/>
        </p:blipFill>
        <p:spPr>
          <a:xfrm>
            <a:off x="4495680" y="1371600"/>
            <a:ext cx="3764160" cy="441972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10" descr="j0298897"/>
          <p:cNvPicPr/>
          <p:nvPr/>
        </p:nvPicPr>
        <p:blipFill>
          <a:blip r:embed="rId2"/>
          <a:stretch/>
        </p:blipFill>
        <p:spPr>
          <a:xfrm>
            <a:off x="7848720" y="5878440"/>
            <a:ext cx="11206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Resourc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Transcendental Web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vcu.edu/engweb/transcendentalism/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Transcendentalism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wsu.edu/~campbelld/amlit/amtrans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: Chapter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csustan.edu/english/reuben/pal/chap4/4intro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radley Hand ITC"/>
              </a:rPr>
              <a:t>What do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Bradley Hand ITC"/>
              </a:rPr>
              <a:t> “transcendentalism” mean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is an ideal spiritual state which “transcends” the physical and empiric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oose collection of eclectic ideas about literature, philosophy, religion, social reform, and the general state of American cult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cendentalism had different meanings for each person involved in the move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1" name="Picture 5" descr="http://www.wsu.edu/~campbelld/pics/crancheyeball.gif"/>
          <p:cNvPicPr/>
          <p:nvPr/>
        </p:nvPicPr>
        <p:blipFill>
          <a:blip r:embed="rId1"/>
          <a:stretch/>
        </p:blipFill>
        <p:spPr>
          <a:xfrm>
            <a:off x="5638680" y="1590840"/>
            <a:ext cx="326736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radley Hand ITC"/>
              </a:rPr>
              <a:t>Where did it come from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lph Waldo Emerson gave German philosopher Immanuel Kant credit for popularizing the term “transcendentalism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began as a reform movement in the Unitarian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a religion—more accurately, it is a philosophy or form of spirit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entered around Boston and Concord, MA. in the mid-1800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son first expressed his philosophy of transcendentalism in his essa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4" name="Picture 5" descr="og-kant"/>
          <p:cNvPicPr/>
          <p:nvPr/>
        </p:nvPicPr>
        <p:blipFill>
          <a:blip r:embed="rId1"/>
          <a:stretch/>
        </p:blipFill>
        <p:spPr>
          <a:xfrm>
            <a:off x="6477120" y="1600200"/>
            <a:ext cx="23684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radley Hand ITC"/>
              </a:rPr>
              <a:t>What did Transcendentalists believe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uitive faculty, instead of the rational or sensical, became the means for a conscious union of the individual psyche (known in Sanskrit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with the world psyche also known as the Oversoul, life-force, prime mover and G-d (known in Sanskrit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rah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7" name="Picture 5" descr="Oversoul"/>
          <p:cNvPicPr/>
          <p:nvPr/>
        </p:nvPicPr>
        <p:blipFill>
          <a:blip r:embed="rId1"/>
          <a:stretch/>
        </p:blipFill>
        <p:spPr>
          <a:xfrm>
            <a:off x="5562720" y="1600200"/>
            <a:ext cx="3132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Basic Premise #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9" name="Picture 5" descr="EmersonCranch"/>
          <p:cNvPicPr/>
          <p:nvPr/>
        </p:nvPicPr>
        <p:blipFill>
          <a:blip r:embed="rId1"/>
          <a:stretch/>
        </p:blipFill>
        <p:spPr>
          <a:xfrm>
            <a:off x="1216080" y="1600200"/>
            <a:ext cx="2519280" cy="4525920"/>
          </a:xfrm>
          <a:prstGeom prst="rect">
            <a:avLst/>
          </a:prstGeom>
          <a:ln w="0">
            <a:noFill/>
          </a:ln>
        </p:spPr>
      </p:pic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dividual is the spiritual center of the universe, and in an individual can be found the clue to nature, history and, ultimately, the cosmos itself. It is not a rejection of the existence of G-d, but a preference to explain an individual and the world in terms of an individu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Basic Premise #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ucture of the universe literally duplicates the structure of the individual self—all knowledge, therefore, begins with self-knowledge. This is similar to Aristotle's dictum "know thyself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3" name="Picture 4" descr="nautilus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Basic Premise #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cendentalists accepted the concept of nature as a living mystery, full of signs; nature is symboli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6" name="Picture 7" descr="galaxy"/>
          <p:cNvPicPr/>
          <p:nvPr/>
        </p:nvPicPr>
        <p:blipFill>
          <a:blip r:embed="rId1"/>
          <a:stretch/>
        </p:blipFill>
        <p:spPr>
          <a:xfrm>
            <a:off x="4267080" y="1600200"/>
            <a:ext cx="4678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Basic Premise #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belief that individual virtue and happiness depend upon self-realization—this depends upon the reconciliation of two universal psychological tendencies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sire to embrace the whole world—to know and become one with the worl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sire to withdraw, remain unique and separate—an egotistical existenc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9" name="Picture 5" descr="http://biocitizen.org/wp-content/uploads/2009/09/transcendentalism-photo-300x225.jpg"/>
          <p:cNvPicPr/>
          <p:nvPr/>
        </p:nvPicPr>
        <p:blipFill>
          <a:blip r:embed="rId1"/>
          <a:stretch/>
        </p:blipFill>
        <p:spPr>
          <a:xfrm>
            <a:off x="5943600" y="19051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Who were the Transcendentalist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Ralph Waldo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David Thor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s Bronson Alco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garet Fu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ry Ch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2" name="Picture 6" descr="j0298897"/>
          <p:cNvPicPr/>
          <p:nvPr/>
        </p:nvPicPr>
        <p:blipFill>
          <a:blip r:embed="rId2"/>
          <a:stretch/>
        </p:blipFill>
        <p:spPr>
          <a:xfrm>
            <a:off x="7772400" y="5638680"/>
            <a:ext cx="1066680" cy="93204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9" descr="http://www.vcu.edu/engweb/transcendentalism/images/p-authors.gif"/>
          <p:cNvPicPr/>
          <p:nvPr/>
        </p:nvPicPr>
        <p:blipFill>
          <a:blip r:embed="rId3"/>
          <a:stretch/>
        </p:blipFill>
        <p:spPr>
          <a:xfrm>
            <a:off x="4724280" y="2209680"/>
            <a:ext cx="3905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00:26:53Z</dcterms:created>
  <dc:creator>Dana Huff</dc:creator>
  <dc:description/>
  <dc:language>en-US</dc:language>
  <cp:lastModifiedBy>Beth</cp:lastModifiedBy>
  <dcterms:modified xsi:type="dcterms:W3CDTF">2012-03-22T22:59:13Z</dcterms:modified>
  <cp:revision>15</cp:revision>
  <dc:subject/>
  <dc:title>Transcendental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